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E51-8DE1-442C-B119-EAE384AA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CC9-0135-4F91-9177-35E3C3B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170-CB7E-4F06-9157-8E827254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20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4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20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79A-7E42-460D-9A8F-7A843FB2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8EC8-8463-4293-9D27-EC5D6077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F629-4BBF-49D9-8147-623181E9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F166-93EE-43FA-B174-DBB6F9E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98BE-1563-462B-A4B1-4EE1BFF9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C9DB-4398-4ED3-9E19-1FFDADE3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29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3772-D5AF-4C96-B5EB-80ECFB1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7F4-61F9-450F-A119-44D65E6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0DC-7B8D-44BD-9304-1FE1C12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AA19-309A-4E77-8105-CDC8A75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1893-C72B-4C8A-B8B9-97DF885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5F1-A28B-4784-A992-272B5261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E56-1B02-4A14-A3E7-86363A5D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20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20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76E-7743-413D-86C3-026A1B6C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9C2-8832-420A-AD41-8DFCA62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0A2-06C0-4135-B2B5-5E8DD77B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3C8-4CE6-49A0-A6DF-055FEEA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29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33C-E9D6-425D-A5C9-AAACDC11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42B-B05E-4896-ACBA-A08BEB54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50E-8422-4CCD-AEE8-0E4E985B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6A6-B84E-4AB0-A5EF-700D0AFA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2" marL="982800" indent="-196560">
              <a:spcBef>
                <a:spcPts val="649"/>
              </a:spcBef>
              <a:buClr>
                <a:srgbClr val="77934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3" marL="1375920" indent="-19656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4" marL="1769040" indent="-196560">
              <a:spcBef>
                <a:spcPts val="649"/>
              </a:spcBef>
              <a:buClr>
                <a:srgbClr val="4460a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5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6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58585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504D-315A-48CD-BAD3-E8486AAF4DD0}" type="datetime">
              <a:rPr b="0" lang="fi-FI" sz="1000" spc="-1" strike="noStrike">
                <a:solidFill>
                  <a:srgbClr val="58585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368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58585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Times New Roman"/>
              </a:rPr>
              <a:t>Tiina Kämäräinen, Lapin 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58585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EA42-EDC9-4FAA-9A8F-717ADE7D3515}" type="slidenum">
              <a:rPr b="0" lang="fi-FI" sz="1000" spc="-1" strike="noStrike">
                <a:solidFill>
                  <a:srgbClr val="58585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ELY_su+ru+eng"/>
          <p:cNvPicPr/>
          <p:nvPr/>
        </p:nvPicPr>
        <p:blipFill>
          <a:blip r:embed="rId2"/>
          <a:stretch/>
        </p:blipFill>
        <p:spPr>
          <a:xfrm>
            <a:off x="284040" y="284040"/>
            <a:ext cx="470376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LY_su+ru+eng_värilliselle pohjalle"/>
          <p:cNvPicPr/>
          <p:nvPr/>
        </p:nvPicPr>
        <p:blipFill>
          <a:blip r:embed="rId3"/>
          <a:stretch/>
        </p:blipFill>
        <p:spPr>
          <a:xfrm>
            <a:off x="284040" y="284040"/>
            <a:ext cx="4703760" cy="701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2" marL="982800" indent="-196560">
              <a:spcBef>
                <a:spcPts val="649"/>
              </a:spcBef>
              <a:buClr>
                <a:srgbClr val="77934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3" marL="1375920" indent="-19656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4" marL="1769040" indent="-196560">
              <a:spcBef>
                <a:spcPts val="649"/>
              </a:spcBef>
              <a:buClr>
                <a:srgbClr val="4460a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5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6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15D8-4E67-405E-9F7F-CA9FDCE75B15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8368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Tiina Kämäräinen, Lapin 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257E-88B7-4147-9C08-7625AAAE9BC7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00" y="2071800"/>
            <a:ext cx="82314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Palaute toteutuneista </a:t>
            </a:r>
            <a:br>
              <a:rPr sz="3600"/>
            </a:b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YVA-prosesseista</a:t>
            </a:r>
            <a:endParaRPr b="0" lang="en-US" sz="3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478656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aivos-YVA –seminaari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Sodankylä 21.-22.11.2013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Alatunnisteen paikkamerkki 4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E01-2ED4-4CC3-8089-DB4023B4E55B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F9F9-53F3-4C18-A666-26DEC1F60294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Yleisiä huomioi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280" y="170028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YVAssa ja hankesuunnittelussa iso panostus kiviaineksen (malmi, sivukivi ja tarvekivi) ominaisuuksien selvittämiseen ja hallinnan suunnitteluun (kivien hallinta = vesien hallintaa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Vesitaseen laskeminen/muodostaminen ja sen pohjalta kunnollinen vesienhallintasuunnitelma ovat tärkeitä kaivoshankkeiss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aivoshankkeen YVAan tulee satsata paljon aikaa, rahaa ja työvoimaa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Työvoimaa hyvin laajalla osaamisalueella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aivosyhtiön tulee satsata tosissaan myös omia resurssejaan ja rekrytoida </a:t>
            </a: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maa väkeä viimeistään YVA-vaiheessa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58585a"/>
                </a:solidFill>
                <a:latin typeface="Arial"/>
              </a:rPr>
              <a:t>Ilman riittävää satsausta hankkeen ja sen eri vaihtoehtojen suunnitteluun ja niiden vaikutusten arviointiin </a:t>
            </a: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ekä haitallisen vaikutusten lieventämisen suunnitteluun homma ei toim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F2A9-9B97-4326-A778-4FB8048C8E93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4731-B213-4A33-B910-D8D22BA4A530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373739"/>
                </a:solidFill>
                <a:latin typeface="Arial"/>
              </a:rPr>
              <a:t>Kaivos YVAt Lapiss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1989000"/>
            <a:ext cx="8288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Yhteensä 10 kaivos-YVA –menettelyä vuosien 2000 – 2013 aikana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ittilän kaivos; 2001, laajennus 201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evitsan kaivos; 2007, laajennus 201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uhangon kaivoshanke; 2004, laajennuksen YVA-selostus vireill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oklin kaivoshanke; 2009, täydennys 201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nnukaisen kaivoshanke; YVA-selostus vireill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emin kaivoksen laajennus; 2009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8F0A-9EFF-48B1-BB95-19BDF41A1F75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6556-F675-46BD-907D-12500761A8EC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48F-968B-4C6A-967D-6373F242C7AA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ohjelm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700280"/>
            <a:ext cx="82882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Monesti liian yleine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Olisi hyvä miettiä minkälainen ohjelman sisällön tulisi oll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Joskus tuntunut, että ohjelma tehdään vähän kuin tahallaan hieman vajaaksi ja odotetaan, että miten siihen esim. yhteysviranomainen suhtautu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Vaihtoehtojen käsittely monesti puutteellis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Vaihtoehtoja ei ole ohjelmavaiheessa mietitty kovin pitkälti tai niitä ei vain esitetä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Nykytilan selvitykset esitetty monesti hyvin yleisest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i kerrota milloin esim. vaikkapa kasvillisuuskartoitukset on tehty tai missä laajuudessa, todetaan ne vain tehdyksi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Vaikutusten rajaus epäselvää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uinka pitkälle perustilaselvitykset tehdään tai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uinka pitkälle vaikutukset arvioidaan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DAE4-9301-4C4B-BC78-202C369830C2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E02E-0E0B-45CE-82AE-511E4ECAC20A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42CC-A9E4-4534-926E-B08157D8F039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ohjelm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89000"/>
            <a:ext cx="8288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unnollinen osallistamis-suunnitelma ja todellinen halu osallistaa intressitahoja hankkeen suunnitteluun ja vaikutusten arviointiin sekä haitallisten vaikutusten lieventämisen selvittämiseen on myös keskeinen osa YVA-menettely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sallistamissuunnitelman lisäksi YVA-ohjelmassa voisi olla tiedottamissuunnitelma. </a:t>
            </a: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B09-433E-48F2-9D36-2226C7D161A5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3B1-AC64-4454-A6E3-5A18A1F20D80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2E0-2843-4566-9217-04F54AFFE63B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selostuks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988640"/>
            <a:ext cx="8288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ngelmaksi viimeaikoina noussut YVA-selostusten laajuu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elkeinpä tavaksi on tullut esittää kaikki mahdollinen hankkeeseen liittye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sim. Hannukaisen YVA-selostus 690 sivua + 4 kirjaa liitteitä noin 2000 sivu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Suhanko kaivoshankkeen laajennus, selostus 530 sivua + liitteet 1500 sivu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Pitäisi kiinnittää huomio oleellisen esille tuomisee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sim. vesistöselvityksistä esitetään monesti kaikki vanha tutkimustieto, kuitenkin johtopäätökset aineistosta ovat monesti aika yleisiä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errotaan tyyliin, että joku pitoisuus on ollut edellisenä vuotena korkeampi kuin tänä vuotena jne., kuitenkaan ei kerrota miksi näin on ollut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8FC9-5913-47E3-838C-10F259CA97F9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2C5-5BF8-4056-BE10-BB35E50EF02C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5095-875D-47CE-8D8A-D2B093B038BD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selostuks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000" y="1844280"/>
            <a:ext cx="828828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ittojen vähentämiseen ja vaikutuksiin ei kiinnitetä tarpeeksi huomio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Johtopäätös voi olla, että hankkeella voi olla haitallisia vaikutuksi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uitenkin todetaan, että asiantuntija-arviona esitetään, että vaikutukset eivät ole kovin merkittäviä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npä ole vielä törmännyt sellaiseen hankkeeseen, jossa hankkeesta vastaava olisi esittänyt, että sillä olisi merkittäviä vaikutuksia esim. vesistöön tai muuhun”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nkkeen riskienarviointi täytyy jo YVA-selotuksessa olla konkretian tasoll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sim. uusien prosessien toimivuuden ja päästöjen suuruuden ja laadun , pato- ja kemikaalionnettomuuksien, vuotojen jne. osal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A8D8-08BE-4D4E-8691-D69496F51C30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053A-8476-4E90-A765-2549CDFF10B1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056B-68D9-4CCE-B00E-4C638316A7CC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selostuks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YVA-asetuksessa selostuksen sisältövaatimuksissa (YVAA 10 §) tuodaan esille, että tulee esittää ehdotus seurantaohjelmaks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yse on YVAn seuranta ohjelmasta, ei ympäristöluvassa tarkoitetusta tarkkailuohjelmas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ysymys kuulu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issä YVA:n toteutumista seurataan, kun ei ole vaadittu missään mitään seurantafoorumi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asia on tullut esille esim. SOVA -vaikutusten  seurannan osal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pitäisikö myös olla jopa jokin SOVA-ohjelma mitä seurataa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YVA päättyy yhteysviranomaisen lausunto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nkkeen muuttuminen tai laajentuminen YVA-menettelyn aikan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iten niihin pitäisi suhtautua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Dian numeron paikkamerkki 2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2C09-21D7-4704-9BBE-0FBE2183625A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39D-5DCE-444E-996B-CCDF91170FF6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Palautetta ohjausryhmätyöskentelystä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1928880"/>
            <a:ext cx="8288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Ilman keskustelua ja kritiikkiä ohjausryhmän työskentely tahtoo näivettyä ja jäsenet jopa lopulta välttelevät siellä käynti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Alussa innostus saattaa olla hyvinkin suur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Useasti ryhmässä käy lopulta niin, että vain YV. on äänessä ja muut kommentoivat lähinnä substanssiinsa liittyviä asioi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hj. ryhmän jäsenet usein huonosti perehtyneet hankkeesee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ohj. ryhmän jäsenten pitäisi pystyä kehittämään hanket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hjausryhmän kritiikittömyys hanketta kohtaa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Ollaan kuulolla!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untien, lautakuntien edustajat eivät aina oikein tiedä asemaansa jos ovat ohjausryhmäss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iksihän kuntien edustaja ohjausryhmässä on useimmiten muu kuin esim. ympäristölautakunnan edustaja?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A649-3B5C-4CAE-8800-A3B0EFDADB1A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F69-63CB-4712-A53A-ABC2EB51C09C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Palautetta asiantuntijalausunno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84464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vatko asiantuntijatahot  aina tiedostaneet, että heiltä pyydetään lausuntoa nimenomaan asiantuntijan rooliss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Lausunnoissa saatetaan tuoda suurin piirtein kaikki puutteet mitkä hankkeeseen liittyvät eli silloin pitää yv:n miettiä, että onko selostus riittäv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aatetaan esittää myös aivan uusia, laajoja,  kalliita seurantoja perustilaselvityksiin ja vaikutusten arvioimiseks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ABB-10FC-40C2-B6E2-FB5333053F24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A25-E90B-473D-B996-701C235EF57F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1:42:02Z</dcterms:created>
  <dc:creator>eta</dc:creator>
  <dc:description/>
  <dc:language>en-US</dc:language>
  <cp:lastModifiedBy>Tiina Kämäräinen</cp:lastModifiedBy>
  <dcterms:modified xsi:type="dcterms:W3CDTF">2013-11-25T07:15:38Z</dcterms:modified>
  <cp:revision>69</cp:revision>
  <dc:subject/>
  <dc:title>Powerpoint-pohja, PPT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ihealue">
    <vt:lpwstr>Viestintä</vt:lpwstr>
  </property>
  <property fmtid="{D5CDD505-2E9C-101B-9397-08002B2CF9AE}" pid="3" name="ContentType">
    <vt:lpwstr>Asiakirja</vt:lpwstr>
  </property>
  <property fmtid="{D5CDD505-2E9C-101B-9397-08002B2CF9AE}" pid="4" name="Dokumenttityyppi">
    <vt:lpwstr>Esitysmateriaali</vt:lpwstr>
  </property>
  <property fmtid="{D5CDD505-2E9C-101B-9397-08002B2CF9AE}" pid="5" name="Julkaisija2">
    <vt:lpwstr>;#TEM;#</vt:lpwstr>
  </property>
  <property fmtid="{D5CDD505-2E9C-101B-9397-08002B2CF9AE}" pid="6" name="Organisaatio">
    <vt:lpwstr>Viestintätyöryhmä</vt:lpwstr>
  </property>
  <property fmtid="{D5CDD505-2E9C-101B-9397-08002B2CF9AE}" pid="7" name="Varsinainen tekijä">
    <vt:lpwstr/>
  </property>
</Properties>
</file>